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5AB-4593-4888-9C0A-F4253A4B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535-57F7-4AE3-9B7F-BA83E3C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559-0514-4012-875C-9D35D4D5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C3A-0DC5-408A-9B4C-2BE561F7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194-F65C-4B38-A92A-B57C61E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E7A-D788-43F2-844A-C3551AF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F2C-7D32-4D57-A2AF-CA197A3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286-CD8B-4C22-A258-E578811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656-DC2E-42AE-BA1B-C4BEF33E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260-B5C6-489E-AAD0-2A29C8E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EE3-6808-44F4-B3B4-60BCCF8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28E-887A-45CE-A4A3-9B9ABA2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06EE-631C-4DBF-9BDC-C137DE9F3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лог как часть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924280"/>
            <a:ext cx="582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предлоги в стихотворен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764640"/>
            <a:ext cx="478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удесный выдался денек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я учу предлоги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Я должен твердо знать урок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нас учитель строгий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я шепчу, закрыв глаза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рестив под стулом ног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значит – “по”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значит – “за”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“за”, и “по” – предлоги…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хорошо бы –за порог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мчаться по дороге!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бы выдумать предлог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 не учить предлог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Александр\Favorites\Pictures\big_devoirs_487_phototeque-1-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60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ополагающий вопрос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нужны части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Александр\Favorites\Pictures\school0301.png"/>
          <p:cNvPicPr/>
          <p:nvPr/>
        </p:nvPicPr>
        <p:blipFill>
          <a:blip r:embed="rId1"/>
          <a:stretch/>
        </p:blipFill>
        <p:spPr>
          <a:xfrm>
            <a:off x="2700360" y="2492280"/>
            <a:ext cx="379260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блемны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ужа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предлог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Александр\Favorites\Pictures\Cartoon-Clipart-Free-16.gif"/>
          <p:cNvPicPr/>
          <p:nvPr/>
        </p:nvPicPr>
        <p:blipFill>
          <a:blip r:embed="rId1"/>
          <a:stretch/>
        </p:blipFill>
        <p:spPr>
          <a:xfrm>
            <a:off x="2700360" y="2276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4920" y="404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предлог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о правильное написание предлогов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едлоги бывают по происхождению и почему они так называю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едлоги бывают по структур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ьно употреблять предлоги в реч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ительност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выполнения – 2 неде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академических часов – 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уроков -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866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езультатов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916280"/>
            <a:ext cx="581832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ца, схе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инение стихотво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ий язык: Учеб. для 7 кл. общеобразоват.учреждений/Т.А.Ладыженская, М.Т.Баранов, Л.А.Тростенцова и др.- 31-е изд.- М.: Просвещение. – 2005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адыженская Т.А. Методическое руководство к учебнику «Русский язык» для 7 класс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етаева Е.А.Современные открытые уроки, Р.Я. 7 класс Ростов- на- Дону, Феникс 200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брецова Ирина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Александр\Favorites\Pictures\48521796_20_1.jpg"/>
          <p:cNvPicPr/>
          <p:nvPr/>
        </p:nvPicPr>
        <p:blipFill>
          <a:blip r:embed="rId1"/>
          <a:stretch/>
        </p:blipFill>
        <p:spPr>
          <a:xfrm>
            <a:off x="2124000" y="2708280"/>
            <a:ext cx="49690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8:13:23Z</dcterms:created>
  <dc:creator>Владелец</dc:creator>
  <dc:description/>
  <dc:language>en-US</dc:language>
  <cp:lastModifiedBy>студент</cp:lastModifiedBy>
  <dcterms:modified xsi:type="dcterms:W3CDTF">2011-04-13T06:42:46Z</dcterms:modified>
  <cp:revision>12</cp:revision>
  <dc:subject/>
  <dc:title>Предлог как часть речи</dc:title>
</cp:coreProperties>
</file>